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type.wav" ContentType="audio/x-wav"/>
  <Override PartName="/ppt/media/image12.jpeg" ContentType="image/jpeg"/>
  <Override PartName="/ppt/media/cashreg.wav" ContentType="audio/x-wav"/>
  <Override PartName="/ppt/media/image7.jpeg" ContentType="image/jpeg"/>
  <Override PartName="/ppt/media/image20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REMINDER.WAV" ContentType="audio/x-wav"/>
  <Override PartName="/ppt/media/image15.jpeg" ContentType="image/jpeg"/>
  <Override PartName="/ppt/media/image14.png" ContentType="image/png"/>
  <Override PartName="/ppt/media/image23.png" ContentType="image/png"/>
  <Override PartName="/ppt/media/image13.jpeg" ContentType="image/jpeg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12D-738B-40D7-81B6-99EC43E8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15C-FBAD-49C8-89D4-859DFFC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E8870-DA16-4622-89D5-60244DA2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5C62-78F6-42B7-A19F-E47EBAA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975EB-950D-44D7-8A26-0575EB6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FED4-E3FE-455D-8D10-CBB6B7C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9494B-854C-445E-9473-F0C963C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3F2BF-769F-4038-9B87-388341A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ADF95-B6A0-4E87-8C12-BA236C3D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26046-9AB8-4C45-88FC-567BA420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7FDA8-8157-484D-A059-35349343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BD39F-99C4-4255-AB54-82B4CF0E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56A-0142-4092-AD14-EACB72BA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5D9C3-DCE6-4742-86EC-1EE9A87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F34D0-991B-40B8-9C3A-1B82B9B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F7BB-3842-4280-B58F-7DAD5A1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C147C-9430-4D22-83BD-24A068C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04202-BBE7-4EAC-A5D7-679DCFF2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93598-0B0D-4C0D-A5FD-8902D03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317E7-01A9-4D74-997D-A950A2E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668C2-4C2C-4E0B-B785-E250BD61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46865-240E-4A88-8727-1FBBCF5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10468-9808-4A20-A02C-277CDE62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D3C-BB23-4642-89BA-C5723051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A5817-6A3C-4665-B88A-BD92807A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8779-6771-452F-9183-D7C7FAD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C8AB-128C-4512-A0AF-0ED341A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59FA-5BA2-422B-83B9-72D58BF0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7627-0C7B-46C5-946B-2167AAA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3E6AD-8CA3-48C5-B45F-23E7007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DD7B-C235-4628-B3EB-698B03F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5F015-26DD-4BB9-994E-4D7E65B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CB4F4-5319-416C-9E5A-CA2BC00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F6E5B-ACDE-46F9-A906-16D16D9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CB0-C204-4FB2-8E49-9A2390CF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57641-082C-4667-8231-DCD600F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1BF2-60D7-4D16-AFA2-0E6C7A7B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E8D4-FEAD-4086-8142-B02861FF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7AA14-FF79-4ADA-85DB-34256922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DC8BA-376F-44A3-A343-B1618BC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850D3-578E-4CAE-9394-8B9AF65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BB6D9-D7A3-45B5-B354-C00ED4FE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47D52-19E4-4C71-9284-8161FD3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D125-4911-4C71-B017-ED1E00FF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F6F95-F5B4-4C1A-BC21-755C8A1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B9E-2DF6-46DB-9BD5-89DC77C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0F5E-7C97-41E9-925F-31BA720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668A6-04D8-4DB1-B600-824F2F9C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7E85-2C91-4D5C-B53A-EE2B71E2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79DA4-B04F-4C46-AB7D-3B68C14E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029D8-8017-442B-B82A-01C6408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3B85-08BF-4015-AE79-5C6E93E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D81-D415-4484-8FA8-5F9FBE2C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8AD-D0C2-40F2-9B34-DDBBD23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67B-D3AD-4B16-94D8-C893550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5E24-19AF-4470-ACD3-02482E4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1C7-0B7F-4AE1-9837-DBC861A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7E4-0C61-4EA8-BC22-EF63879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CFB9-84F5-4055-B5A8-C146690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1188-ADA2-4FCB-917E-334D3D1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E8B7-4142-4B4A-AFE3-B35B0320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53A-2947-49D3-B0D7-11F1BF79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7FE8-64CD-4AC0-99D5-3328E973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D88F-7E3A-45B5-9406-9C2D7C2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6F04-697B-4FB9-B093-1C944F1E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B773-B5B7-4D25-9785-B798312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7F47-8E8E-4999-AECD-FA3FAC3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E8A-6B17-4A1E-B1D6-21F267D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1764-8045-4A02-977E-76156BB9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B805-3B5D-4FAE-8AC9-0691744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A629-8E78-4550-8721-73614FE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50A7-59EE-4F1E-94EE-4E823FF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F419-7D62-499A-9EE8-43358EE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1271-8D2D-457A-A310-0B00E508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1843-A8DA-48A1-B9B0-F740236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AB9F-90D8-4D58-BE73-AC5EB478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3A1C-3E3C-431F-991F-4F879434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58DB-7E1F-47AF-8F08-3E4A856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747-C4C0-4A3E-A130-A9B6628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2DFC-E6B9-4F98-AE41-6B3990F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53F7-A6C2-485C-8099-07B60D2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3F95-D2C8-4B86-8A1B-D88F74C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A656-A73C-4D3C-BE42-F892823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B07A-9BD4-41AB-AFA8-ACF5EEB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CF2A-877B-4638-BD28-155A5B3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9516-93FD-4322-8C9A-A4E7640A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0247-B212-497E-B470-DF06B16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1371-9784-4CCD-B3F2-39695917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53EE-C7A3-43CF-AB71-3A380243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961-BC9B-484E-869B-447D5D8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2663-C3B2-4B98-9E77-39F6275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6D1AB-A7C1-4BC0-9653-6E651732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0066-864E-467D-99B9-B505D567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2CAC-83D1-40FC-9378-CD87135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DD00-0C7B-46F9-BF21-185EDE2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6C7F-4C7B-45EC-9E73-895955E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AAD2-4B31-46D4-931A-3112B37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86F1-D6A4-45EF-900C-98BA5E5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8650-8EC9-4C3C-B29E-EBAAA71C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9C4C-1F89-402A-BD8F-A1919AB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6FF-2483-4377-95C8-2B012FED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0299-EBF2-4F14-AFAF-01407D0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8568-0FCE-40ED-A6B8-8650CB69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2A4BE-983B-4F54-8334-881529C7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EAAA-8398-4E66-896F-4386E8F2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6100-7D5E-4EE9-B486-65C319C2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ACDE-B8D1-49CB-AB76-222E48C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ED3F-98C5-4F53-A4BC-56746FE9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84FA-22FE-4380-B053-40BF3AE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CA22-97C9-4CD5-85BA-08ECFEAC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2558-ED85-401C-AD53-C9FDFF39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038-DD6C-493B-B90D-815377B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4D98-2EC6-4D39-977E-C9AFFE1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92FD6-E353-407E-91A1-31900864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F570-A250-4081-A122-D18A5361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C100-E430-4D2C-AD3D-DADBD61F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AA8D8-A479-48D5-8EFA-058038C1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B947-A255-47D7-A685-5640E15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22935-205E-481F-9E00-4938941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A68FD-AE76-49B4-8F72-5673E7EF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AD7F-11AF-4813-B64D-8C78CC3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90D4-F7FF-4450-B218-EE7C595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9C5-8FF9-4E74-87A9-1D1A4B7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7E158-FEC0-46ED-9DF7-3AC57A6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6396-145A-41E2-8645-C721A68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4DC6F-900C-48AA-9019-ABB51AC5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C7B5-04D6-4845-9DCB-AD4A9518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BE21-A2B8-4313-9ADF-6A0D73A0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38F15-1959-46CF-9209-311D21F3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76708-5C0E-4CF3-A262-F7A3E61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0790-6166-4792-9983-D3ADBE5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433C-AD9B-448D-83B5-1BB94844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AC16F-E318-4CEA-92E7-9AEEEC7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2E9-F69E-4048-80C9-4F5882B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11AE3-BA08-473B-B378-C158AF8C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9840-2197-45C1-9B22-228FD48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9DA1-2804-4F28-8C4A-54BAA4B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3FE7-6B9B-4BB6-AE81-5DD545A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57693-3EAC-43FB-A6F9-411C350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84527-CEF6-4981-9F7A-3E42191D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1C58-306C-4669-BC9C-78F31075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0465B-312E-467B-B06B-CA4AD1CB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5B3F-A98C-4552-9368-E595DD70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C5A4E-6D64-4651-B8BA-0A61C9DD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09A-A3F1-48D7-87FF-631F87FF083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12D-9904-4585-9CC6-785193EE90F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35B-84D8-4811-BE81-A3ADEAE5CE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4064-3050-4761-A9FB-931C621F42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FA7-A911-4650-9DEA-7D5DC1D1A2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06B-AED4-4D1D-A88C-C81E212260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002-0898-4D89-B1A6-395B842957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99E-F076-4318-B564-17DC9632C6D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7CA-B438-4F58-B283-864FB8653F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3FC-6FF6-4A7C-A9FC-2D3E1806EBC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F18-139E-4228-99E4-6216B246885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A1B-83E6-4B4B-A09A-EF860497AD0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REMIND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2" descr="pic_222420"/>
          <p:cNvPicPr/>
          <p:nvPr/>
        </p:nvPicPr>
        <p:blipFill>
          <a:blip r:embed="rId1"/>
          <a:stretch/>
        </p:blipFill>
        <p:spPr>
          <a:xfrm>
            <a:off x="3635280" y="836640"/>
            <a:ext cx="5256360" cy="5616720"/>
          </a:xfrm>
          <a:prstGeom prst="rect">
            <a:avLst/>
          </a:prstGeom>
          <a:ln w="0">
            <a:noFill/>
          </a:ln>
        </p:spPr>
      </p:pic>
      <p:sp>
        <p:nvSpPr>
          <p:cNvPr id="507" name="WordArt 8"/>
          <p:cNvSpPr txBox="1"/>
          <p:nvPr/>
        </p:nvSpPr>
        <p:spPr>
          <a:xfrm rot="5400000">
            <a:off x="-505080" y="2457000"/>
            <a:ext cx="468000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华文行楷"/>
              </a:rPr>
              <a:t>桂花雨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3"/>
          <p:cNvSpPr/>
          <p:nvPr/>
        </p:nvSpPr>
        <p:spPr>
          <a:xfrm>
            <a:off x="395280" y="3933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9556d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3200" spc="-1" strike="noStrike" u="sng">
                <a:solidFill>
                  <a:srgbClr val="99556d"/>
                </a:solidFill>
                <a:uFillTx/>
                <a:latin typeface="Arial"/>
                <a:ea typeface="宋体"/>
              </a:rPr>
              <a:t>一个“浸”字，形象地写出了桂花的香气，桂花不仅花开时香，晾干了泡茶、做饼也同样香气弥漫。桂花，永远香在人们的心里。它的香，已挣脱了季节的束缚，香甜了四季，也香甜了人们的生活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395280" y="76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桂花盛开的时候，不说香飘十里，至少前后十几家邻居，没有不浸在桂花香里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8" name="Picture 20" descr="2005-10-14_10-43-27_1"/>
          <p:cNvPicPr/>
          <p:nvPr/>
        </p:nvPicPr>
        <p:blipFill>
          <a:blip r:embed="rId1"/>
          <a:stretch/>
        </p:blipFill>
        <p:spPr>
          <a:xfrm>
            <a:off x="5076720" y="836640"/>
            <a:ext cx="3672000" cy="30448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1"/>
          <p:cNvSpPr/>
          <p:nvPr/>
        </p:nvSpPr>
        <p:spPr>
          <a:xfrm>
            <a:off x="-73080" y="27082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全年，整个村子都浸在桂花的香气里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1" descr="{C29C1D8F-3086-44D5-BFB7-878613A66281}"/>
          <p:cNvPicPr/>
          <p:nvPr/>
        </p:nvPicPr>
        <p:blipFill>
          <a:blip r:embed="rId1"/>
          <a:srcRect l="3291" t="3464" r="4102" b="303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1114200" y="1484280"/>
            <a:ext cx="7489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为什么说摇花对“我”来说是件大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76360" y="2707920"/>
            <a:ext cx="6840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5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画出描写“我”摇桂花树和表达心情的句子，边读边想象课文描述的情景。边读边体会作者表达的思想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24000" y="270828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539640" y="1413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      </a:t>
            </a:r>
            <a:r>
              <a:rPr b="0" i="1" lang="en-US" sz="3600" spc="-1" strike="noStrike" u="sng">
                <a:solidFill>
                  <a:srgbClr val="800000"/>
                </a:solidFill>
                <a:uFillTx/>
                <a:latin typeface="Tahoma"/>
                <a:ea typeface="楷体_GB2312"/>
              </a:rPr>
              <a:t>①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ahoma"/>
                <a:ea typeface="楷体_GB2312"/>
              </a:rPr>
              <a:t>这下，我可乐了，帮大人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Tahoma"/>
                <a:ea typeface="楷体_GB2312"/>
              </a:rPr>
              <a:t>抱着桂花树</a:t>
            </a:r>
            <a:r>
              <a:rPr b="0" i="1" lang="zh-CN" sz="3600" spc="-1" strike="noStrike" u="sng">
                <a:solidFill>
                  <a:srgbClr val="993300"/>
                </a:solidFill>
                <a:uFillTx/>
                <a:latin typeface="Tahoma"/>
                <a:ea typeface="楷体_GB2312"/>
              </a:rPr>
              <a:t>，</a:t>
            </a: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Tahoma"/>
                <a:ea typeface="楷体_GB2312"/>
              </a:rPr>
              <a:t>使劲地摇</a:t>
            </a:r>
            <a:r>
              <a:rPr b="0" i="1" lang="zh-CN" sz="3600" spc="-1" strike="noStrike" u="sng">
                <a:solidFill>
                  <a:srgbClr val="993300"/>
                </a:solidFill>
                <a:uFillTx/>
                <a:latin typeface="Tahoma"/>
                <a:ea typeface="楷体_GB2312"/>
              </a:rPr>
              <a:t>。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ahoma"/>
                <a:ea typeface="楷体_GB2312"/>
              </a:rPr>
              <a:t>桂花纷纷落下来，我们满头满身都是桂花。我喊：</a:t>
            </a:r>
            <a:r>
              <a:rPr b="0" i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Tahoma"/>
                <a:ea typeface="楷体_GB2312"/>
              </a:rPr>
              <a:t>啊！真像下雨，好香的雨啊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5" name="Picture 4" descr="桂花雨a"/>
          <p:cNvPicPr/>
          <p:nvPr/>
        </p:nvPicPr>
        <p:blipFill>
          <a:blip r:embed="rId1"/>
          <a:stretch/>
        </p:blipFill>
        <p:spPr>
          <a:xfrm>
            <a:off x="4427640" y="836640"/>
            <a:ext cx="446400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osmanthus_04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404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395280" y="1268280"/>
            <a:ext cx="8209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、理解“这下，我可乐了，帮大人抱着桂花树，使劲地摇”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b </a:t>
            </a:r>
            <a:r>
              <a:rPr b="0" i="1" lang="zh-CN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、想象“桂花纷纷落下来，我们满头满身都是桂花。”的情景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　      </a:t>
            </a: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c </a:t>
            </a:r>
            <a:r>
              <a:rPr b="0" i="1" lang="zh-CN" sz="3600" spc="-1" strike="noStrike" u="sng">
                <a:solidFill>
                  <a:srgbClr val="00ffff"/>
                </a:solidFill>
                <a:uFillTx/>
                <a:latin typeface="Arial"/>
                <a:ea typeface="宋体"/>
              </a:rPr>
              <a:t>、为什么说桂花纷纷落下来的情景“真像下雨”，而且是“好香的雨”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"/>
                            </p:stCondLst>
                            <p:childTnLst>
                              <p:par>
                                <p:cTn id="24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"/>
                            </p:stCondLst>
                            <p:childTnLst>
                              <p:par>
                                <p:cTn id="25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186920" y="3789000"/>
            <a:ext cx="72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桂花摇落以后，挑去小枝小叶，晒上几天太阳，收在铁盒子里，可以加在茶叶里泡茶，过年时还可以做羔饼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4"/>
          <p:cNvPicPr/>
          <p:nvPr/>
        </p:nvPicPr>
        <p:blipFill>
          <a:blip r:embed="rId1"/>
          <a:stretch/>
        </p:blipFill>
        <p:spPr>
          <a:xfrm rot="1092000">
            <a:off x="0" y="549000"/>
            <a:ext cx="1585800" cy="1409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20060512101545361"/>
          <p:cNvPicPr/>
          <p:nvPr/>
        </p:nvPicPr>
        <p:blipFill>
          <a:blip r:embed="rId2"/>
          <a:stretch/>
        </p:blipFill>
        <p:spPr>
          <a:xfrm>
            <a:off x="2340000" y="907920"/>
            <a:ext cx="475308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xin_46090316103346810384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533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179280" y="1341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③ 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可是母亲说：“这里的桂花再香，也比不上家乡院子里的桂花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于是，我又想起了在故乡童年时代的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摇花乐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还有那摇落的阵阵桂花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8" descr="gf04b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84360" y="1844280"/>
            <a:ext cx="7416720" cy="3459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9999ff"/>
                </a:solidFill>
                <a:latin typeface="隶书"/>
                <a:ea typeface="隶书"/>
              </a:rPr>
              <a:t>　</a:t>
            </a:r>
            <a:r>
              <a:rPr b="0" lang="en-US" sz="3200" spc="-1" strike="noStrike">
                <a:solidFill>
                  <a:srgbClr val="cc66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cc6600"/>
                </a:solidFill>
                <a:latin typeface="隶书"/>
                <a:ea typeface="隶书"/>
              </a:rPr>
              <a:t>．八月桂花，十里飘香。杭州有一处小山，全是桂花树，花开时那才是香飘十里。可是母亲说：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cc6600"/>
                </a:solidFill>
                <a:latin typeface="隶书"/>
                <a:ea typeface="隶书"/>
              </a:rPr>
              <a:t>这里的桂花再香，也比不上家乡院子里的桂花。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隶书"/>
              </a:rPr>
              <a:t>”</a:t>
            </a:r>
            <a:r>
              <a:rPr b="0" lang="zh-CN" sz="3200" spc="-1" strike="noStrike">
                <a:solidFill>
                  <a:srgbClr val="cc6600"/>
                </a:solidFill>
                <a:latin typeface="隶书"/>
                <a:ea typeface="隶书"/>
              </a:rPr>
              <a:t>同是桂花，难道在不同的地方香味就不一样吗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7"/>
          <p:cNvSpPr txBox="1"/>
          <p:nvPr/>
        </p:nvSpPr>
        <p:spPr>
          <a:xfrm>
            <a:off x="611280" y="90792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c0c0c0"/>
                </a:solidFill>
                <a:uFillTx/>
                <a:latin typeface="华文新魏"/>
              </a:rPr>
              <a:t>品读体会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c0c0c0"/>
              </a:solidFill>
              <a:uFillTx/>
              <a:latin typeface="华文新魏"/>
              <a:ea typeface="华文新魏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7" descr="827850033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178920" y="981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母亲这句朴素的话，与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是故乡明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如出一辙。母亲每年都闻着桂花的香气，关注桂花，收获桂花，体验着馈赠桂花的快乐，吃着桂花做的食品，喝着桂花茶。桂花，已充盈她生活的全部空间。家乡院子里的这棵桂花树，是唯我的，是母亲生活乃至生命的一部分，还会有什么可以替代它呢？桂花是没有区别的，问题是母亲不是在用嗅觉区分桂花，而是用情感在体味它们。一亲一疏，感觉自然就泾渭分明了。从中，我们不难看出，家乡在母亲心中的分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gf04b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1187280" y="2076480"/>
            <a:ext cx="691200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99ff"/>
                </a:solidFill>
                <a:uFillTx/>
                <a:latin typeface="隶书"/>
                <a:ea typeface="隶书"/>
              </a:rPr>
              <a:t>    </a:t>
            </a:r>
            <a:r>
              <a:rPr b="0" i="1" lang="en-US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2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．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Arial"/>
                <a:ea typeface="隶书"/>
              </a:rPr>
              <a:t>“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于是，我又想起了在故乡童年时代的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Arial"/>
                <a:ea typeface="隶书"/>
              </a:rPr>
              <a:t>“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摇花乐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Arial"/>
                <a:ea typeface="隶书"/>
              </a:rPr>
              <a:t>”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，还有那摇落的阵阵桂花雨。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Arial"/>
                <a:ea typeface="隶书"/>
              </a:rPr>
              <a:t>“</a:t>
            </a:r>
            <a:r>
              <a:rPr b="0" i="1" lang="zh-CN" sz="3600" spc="-1" strike="noStrike" u="sng">
                <a:solidFill>
                  <a:srgbClr val="9933ff"/>
                </a:solidFill>
                <a:uFillTx/>
                <a:latin typeface="隶书"/>
                <a:ea typeface="隶书"/>
              </a:rPr>
              <a:t>这句表达了作者怎样的思想感情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827850033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"/>
          <p:cNvSpPr/>
          <p:nvPr/>
        </p:nvSpPr>
        <p:spPr>
          <a:xfrm>
            <a:off x="539640" y="11970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这个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又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字说明作者不止一次地想起故乡童年时代的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摇花乐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和桂花雨，只是这次母亲的话使他又一次想起。淡淡的一句话，却传递出了作者对故乡桂花深深的怀念。家乡的桂花，是跟作者童年的快乐连在一起的，那种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摇花乐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</a:rPr>
              <a:t>”</a:t>
            </a:r>
            <a:r>
              <a:rPr b="0" i="1" lang="zh-CN" sz="3200" spc="-1" strike="noStrike" u="sng">
                <a:solidFill>
                  <a:srgbClr val="cc6600"/>
                </a:solidFill>
                <a:uFillTx/>
                <a:latin typeface="楷体_GB2312"/>
                <a:ea typeface="楷体_GB2312"/>
              </a:rPr>
              <a:t>和桂花雨已植进了他的生命，成为他幸福童年的最美好、最耐人回味的记忆。这恐怕是作者难忘家乡桂花的真正原因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图片1'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900000" y="134136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琦君（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1918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—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）现当代女作家。原名潘希真。浙江永嘉人。毕业于杭州之江大学中文系，师从词学家夏承焘。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1949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年赴台湾，在司法部门工作了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26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年，并任台湾中国文化学院、中央大学中文系教授。后定居美国。出版散文集、小说集及儿童文学作品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30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余种，内有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烟愁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细纱灯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三更有梦书当枕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桂花雨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细雨灯花落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读书与生活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千里怀人月在峰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与我同车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留予他年说梦痕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琦君寄小读者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琴心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菁姐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七月的哀伤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以及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《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琦君自选集</a:t>
            </a:r>
            <a:r>
              <a:rPr b="0" i="1" lang="en-US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》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等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WordArt 5"/>
          <p:cNvSpPr txBox="1"/>
          <p:nvPr/>
        </p:nvSpPr>
        <p:spPr>
          <a:xfrm>
            <a:off x="611280" y="476280"/>
            <a:ext cx="208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华文行楷"/>
              </a:rPr>
              <a:t>作者介绍</a:t>
            </a:r>
            <a:endParaRPr b="0" i="1" lang="en-US" sz="2400" spc="1" strike="noStrike" u="sng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华文行楷"/>
              <a:ea typeface="华文行楷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{3D3FC629-82C8-4C0E-90A7-0C4C02284411}"/>
          <p:cNvPicPr/>
          <p:nvPr/>
        </p:nvPicPr>
        <p:blipFill>
          <a:blip r:embed="rId1"/>
          <a:stretch/>
        </p:blipFill>
        <p:spPr>
          <a:xfrm>
            <a:off x="179280" y="620640"/>
            <a:ext cx="8713800" cy="5977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38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扩展思维练习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907640" y="1483920"/>
            <a:ext cx="619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学习文中的表达方法，说一说  你童年难与忘怀的人和事，或说一说你喜欢的植物或家乡的特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1" descr="{EA13B0FC-27CB-4E10-8685-7B8EC7CD7A4B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9" descr="图片1xcf"/>
          <p:cNvPicPr/>
          <p:nvPr/>
        </p:nvPicPr>
        <p:blipFill>
          <a:blip r:embed="rId1"/>
          <a:stretch/>
        </p:blipFill>
        <p:spPr>
          <a:xfrm>
            <a:off x="-25236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971280" y="2133360"/>
            <a:ext cx="755964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556d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99556d"/>
                </a:solidFill>
                <a:latin typeface="黑体"/>
                <a:ea typeface="黑体"/>
              </a:rPr>
              <a:t>、自学课文中的生字新词；理解课文内容，体会作者表达感情的句子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556d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99556d"/>
                </a:solidFill>
                <a:latin typeface="黑体"/>
                <a:ea typeface="黑体"/>
              </a:rPr>
              <a:t>、能想象课文描写的情景，体会作者表达的思想感情，有感情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556d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99556d"/>
                </a:solidFill>
                <a:latin typeface="黑体"/>
                <a:ea typeface="黑体"/>
              </a:rPr>
              <a:t>、体会作者喜欢桂花、摇桂花的乐趣和热爱家乡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"/>
          <p:cNvSpPr txBox="1"/>
          <p:nvPr/>
        </p:nvSpPr>
        <p:spPr>
          <a:xfrm>
            <a:off x="2987640" y="98100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c0c0c0"/>
                </a:solidFill>
                <a:uFillTx/>
                <a:latin typeface="华文新魏"/>
              </a:rPr>
              <a:t>学习目标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c0c0c0"/>
              </a:solidFill>
              <a:uFillTx/>
              <a:latin typeface="华文新魏"/>
              <a:ea typeface="华文新魏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9" descr="图片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2196720" y="2997000"/>
            <a:ext cx="93348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2987640" y="170028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c0c0c0"/>
                </a:solidFill>
                <a:uFillTx/>
                <a:latin typeface="华文新魏"/>
              </a:rPr>
              <a:t>生字学习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c0c0c0"/>
              </a:solidFill>
              <a:uFillTx/>
              <a:latin typeface="华文新魏"/>
              <a:ea typeface="华文新魏"/>
            </a:endParaRPr>
          </a:p>
        </p:txBody>
      </p:sp>
      <p:pic>
        <p:nvPicPr>
          <p:cNvPr id="517" name="Picture 13" descr="02"/>
          <p:cNvPicPr/>
          <p:nvPr/>
        </p:nvPicPr>
        <p:blipFill>
          <a:blip r:embed="rId2"/>
          <a:stretch/>
        </p:blipFill>
        <p:spPr>
          <a:xfrm>
            <a:off x="250920" y="549360"/>
            <a:ext cx="2233440" cy="150012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4"/>
          <p:cNvSpPr/>
          <p:nvPr/>
        </p:nvSpPr>
        <p:spPr>
          <a:xfrm>
            <a:off x="4859280" y="292428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99556d"/>
                </a:solidFill>
                <a:uFillTx/>
                <a:latin typeface="Arial"/>
                <a:ea typeface="宋体"/>
              </a:rPr>
              <a:t>（箩筐）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932360" y="461160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99556d"/>
                </a:solidFill>
                <a:uFillTx/>
                <a:latin typeface="Arial"/>
                <a:ea typeface="宋体"/>
              </a:rPr>
              <a:t>（杭州）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060720" y="299736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luó</a:t>
            </a:r>
            <a:r>
              <a:rPr b="0" i="1" lang="zh-CN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）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2771640" y="465300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h</a:t>
            </a: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ng</a:t>
            </a:r>
            <a:r>
              <a:rPr b="0" i="1" lang="zh-CN" sz="44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）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3" descr="f26573eac3bfb87ef6407dbfa73d8ebd_m"/>
          <p:cNvPicPr/>
          <p:nvPr/>
        </p:nvPicPr>
        <p:blipFill>
          <a:blip r:embed="rId1"/>
          <a:srcRect l="0" t="0" r="-80" b="8416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23" name="WordArt 4"/>
          <p:cNvSpPr txBox="1"/>
          <p:nvPr/>
        </p:nvSpPr>
        <p:spPr>
          <a:xfrm>
            <a:off x="611280" y="981000"/>
            <a:ext cx="216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c0c0c0"/>
                </a:solidFill>
                <a:uFillTx/>
                <a:latin typeface="华文新魏"/>
              </a:rPr>
              <a:t>初读课文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c0c0c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539640" y="2133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ccff"/>
                </a:solidFill>
                <a:uFillTx/>
                <a:latin typeface="黑体"/>
              </a:rPr>
              <a:t>1.</a:t>
            </a:r>
            <a:r>
              <a:rPr b="0" i="1" lang="zh-CN" sz="3600" spc="-1" strike="noStrike" u="sng">
                <a:solidFill>
                  <a:srgbClr val="33ccff"/>
                </a:solidFill>
                <a:uFillTx/>
                <a:latin typeface="Arial"/>
                <a:ea typeface="楷体_GB2312"/>
              </a:rPr>
              <a:t>说说课文主要讲了一件什么事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ccff"/>
                </a:solidFill>
                <a:uFillTx/>
                <a:latin typeface="黑体"/>
              </a:rPr>
              <a:t>2.</a:t>
            </a:r>
            <a:r>
              <a:rPr b="0" i="1" lang="zh-CN" sz="3600" spc="-1" strike="noStrike" u="sng">
                <a:solidFill>
                  <a:srgbClr val="33ccff"/>
                </a:solidFill>
                <a:uFillTx/>
                <a:latin typeface="Arial"/>
                <a:ea typeface="楷体_GB2312"/>
              </a:rPr>
              <a:t>边读边想象课文描述的情景。边读边体会作者表达的思想感情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ccff"/>
                </a:solidFill>
                <a:uFillTx/>
                <a:latin typeface="黑体"/>
              </a:rPr>
              <a:t>3.</a:t>
            </a:r>
            <a:r>
              <a:rPr b="0" i="1" lang="zh-CN" sz="3600" spc="-1" strike="noStrike" u="sng">
                <a:solidFill>
                  <a:srgbClr val="33ccff"/>
                </a:solidFill>
                <a:uFillTx/>
                <a:latin typeface="Arial"/>
                <a:ea typeface="楷体_GB2312"/>
              </a:rPr>
              <a:t>回忆自己的童年生活，如有不能忘怀的人和事，说给大家听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2" descr="t7fgy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3600"/>
          </a:xfrm>
          <a:prstGeom prst="rect">
            <a:avLst/>
          </a:prstGeom>
          <a:ln w="0">
            <a:noFill/>
          </a:ln>
        </p:spPr>
      </p:pic>
      <p:sp>
        <p:nvSpPr>
          <p:cNvPr id="526" name="WordArt 4"/>
          <p:cNvSpPr txBox="1"/>
          <p:nvPr/>
        </p:nvSpPr>
        <p:spPr>
          <a:xfrm>
            <a:off x="395280" y="692280"/>
            <a:ext cx="26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c0c0c0"/>
                </a:solidFill>
                <a:uFillTx/>
                <a:latin typeface="华文新魏"/>
              </a:rPr>
              <a:t>品读课文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c0c0c0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900000" y="1484280"/>
            <a:ext cx="7417080" cy="2288520"/>
          </a:xfrm>
          <a:prstGeom prst="rect">
            <a:avLst/>
          </a:prstGeom>
          <a:solidFill>
            <a:srgbClr val="cc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、 课文主要讲了一件什么事？“桂花雨”是什么意思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9556d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cc0099"/>
                </a:solidFill>
                <a:uFillTx/>
                <a:latin typeface="Arial"/>
                <a:ea typeface="宋体"/>
              </a:rPr>
              <a:t>课文主要讲了作者回忆自己童年的桂花和帮妈妈摇桂花的事。“桂花雨”是指好多桂花落下来，就像下雨一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1546727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9280" y="620640"/>
            <a:ext cx="8785440" cy="59263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757080" y="2195640"/>
            <a:ext cx="7560000" cy="282096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分别画出描述桂花树和桂花香气的语句，想一想每句话的意思，并与同小组的同学交流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6"/>
          <p:cNvSpPr/>
          <p:nvPr/>
        </p:nvSpPr>
        <p:spPr>
          <a:xfrm>
            <a:off x="250920" y="981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桂花树的样子笨笨的，不像梅树那样有姿态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1" name="Picture 7" descr="图片4"/>
          <p:cNvPicPr/>
          <p:nvPr/>
        </p:nvPicPr>
        <p:blipFill>
          <a:blip r:embed="rId1"/>
          <a:stretch/>
        </p:blipFill>
        <p:spPr>
          <a:xfrm>
            <a:off x="639720" y="1773360"/>
            <a:ext cx="3645000" cy="4535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图片5"/>
          <p:cNvPicPr/>
          <p:nvPr/>
        </p:nvPicPr>
        <p:blipFill>
          <a:blip r:embed="rId2"/>
          <a:stretch/>
        </p:blipFill>
        <p:spPr>
          <a:xfrm>
            <a:off x="4859280" y="1773360"/>
            <a:ext cx="360036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"/>
                            </p:stCondLst>
                            <p:childTnLst>
                              <p:par>
                                <p:cTn id="14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20050904194434"/>
          <p:cNvPicPr/>
          <p:nvPr/>
        </p:nvPicPr>
        <p:blipFill>
          <a:blip r:embed="rId1"/>
          <a:srcRect l="0" t="0" r="48147" b="12676"/>
          <a:stretch/>
        </p:blipFill>
        <p:spPr>
          <a:xfrm>
            <a:off x="395280" y="907920"/>
            <a:ext cx="4106880" cy="5185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1"/>
          <p:cNvSpPr/>
          <p:nvPr/>
        </p:nvSpPr>
        <p:spPr>
          <a:xfrm>
            <a:off x="5076720" y="1484280"/>
            <a:ext cx="367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4284720" y="1481040"/>
            <a:ext cx="450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不开花的时，只是满树的叶子；开花时，仔细地在树丛里寻找，才能看到那些小花。可是桂花的香气，太迷人了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6:32:38Z</dcterms:modified>
  <cp:revision>1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